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23B-DDB9-4AFB-A061-D9A30453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F14-CEB2-4F55-ADB3-CA282954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A7F-4D90-47CA-A42B-F4556911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AC5-2EEF-471A-9A8E-CAB2F9F5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890D-9850-403C-9163-C8CA1C89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5D0D-62EB-43E3-B3F7-44F4371A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4F00-EB7E-48E4-9FEA-2D0840D5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9464-3A26-449A-B3F6-FD554B3C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82F9-D293-40A0-B033-BF5568C8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E292-232C-4367-958F-D4395AC4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816E-2227-4DA9-90A4-5AB2661F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A7B-4101-4C7C-8D1F-CAACD2D5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9FF6-5F0F-4145-B1AE-373939B5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B0F8-5F5F-4329-9D7A-B9237DF4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39EF-5C96-4AD5-89DF-F9E2ADD2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F22C-9C6A-4A8D-A018-C91395B8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2DEC-B7DA-4C8D-9C23-9AC4DFC2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38C4D-C086-4DC6-8067-3E6670AF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52A43-7DE0-4DE5-AF45-2C207F46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4D78-36C4-4749-A086-A41327E6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7A758-7157-4531-BC77-4C5D5BB8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F3DD-3D12-49FC-8BB6-27281F99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AC4-3D37-47AF-9F2C-DE121038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9FAA6-BD60-4FA0-8750-F0769C04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9EB2-118E-4D29-B5E8-AC4656DB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CDC66-B66A-40DD-BEA9-414A4E48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CDC3-169D-4775-8D68-AF56B748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BA0E8-EE4F-47EA-8E71-7DCFDF2E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05545-F588-4B47-B1E2-5596CBB5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1241F-1F1B-4B39-8632-618BB0FF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0F2AA-D6F3-41CF-9ECE-12AF62EB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883D6-503F-4CFF-BCB6-D2E55DCD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C9932-CBC5-40F4-AE06-EF18239C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994-C17E-4982-B6E0-FA0B5490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0CBDD-396B-4CE3-B37F-4C5F94DE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FAF3-FFB0-4C3F-9D3E-31662A23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314E-D2AA-4381-A788-55F67E77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3B57D-8E44-42E0-94BD-CBF85463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3D58-92B6-4FE9-9E33-F55D37A5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CC196-6567-4395-A4EF-45BE806D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AE5B3-D2FC-4721-80AB-71692FB4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C1C3-DAD7-4E77-A2FC-C113EDAD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CBC63-AC1F-436F-98ED-EB306775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9789C-D2C4-40C6-80D1-A6427013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A3C-E5C4-492D-853C-14A3EEBE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9F723-BDF3-4815-BA7B-D81BDE1D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163D7-16AD-4899-B7D0-4B3BF572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91ADC-CB51-43DE-9F91-004FD2BA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8087E-5DD3-45FD-AB2F-E3A91B75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AFDD2-C3B4-4B2D-A034-98DAB2BA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E8F9C-008B-4281-BAA0-0B0F7D63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EA724-EB7A-41B4-99E6-23F2AE12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6D0D5-6DA8-4AB0-BD97-1670E748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B3656-B96B-441D-9C54-6A799681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F0D0B-E023-4CFC-8CC7-1AB05FCC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2BC-7EA3-44CF-9DC5-0835429D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AE514-0483-4B1C-8774-44B720D1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D30-C9FB-49DD-8D28-560CCDAE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958-0F84-4BC8-8947-A4E9759B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733D-DA26-4B17-911C-44E93EF7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42ABA-7F10-48BA-B20A-C8C866B9A9E8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D1996C-AB76-4387-8F00-5806B25DBCF1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007AA-EB99-4AA3-95CD-92C75F598084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93530-0AE6-4C87-A88E-5BDA329ED9E8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8FD2E-9464-4861-8B4B-5B648DFEC38F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49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62626"/>
                </a:solidFill>
                <a:latin typeface="Constantia"/>
              </a:rPr>
              <a:t>ГЛАГОЛ </a:t>
            </a:r>
            <a:br>
              <a:rPr sz="8000"/>
            </a:br>
            <a:r>
              <a:rPr b="0" lang="ru-RU" sz="6000" spc="-1" strike="noStrike">
                <a:solidFill>
                  <a:srgbClr val="262626"/>
                </a:solidFill>
                <a:latin typeface="Constantia"/>
              </a:rPr>
              <a:t>КАК ЧАСТЬ РЕЧИ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68360" y="2852640"/>
            <a:ext cx="7989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197000"/>
          <a:ext cx="8229600" cy="5433840"/>
        </p:xfrm>
        <a:graphic>
          <a:graphicData uri="http://schemas.openxmlformats.org/drawingml/2006/table">
            <a:tbl>
              <a:tblPr/>
              <a:tblGrid>
                <a:gridCol w="1400040"/>
                <a:gridCol w="1643040"/>
                <a:gridCol w="1643400"/>
                <a:gridCol w="1896840"/>
                <a:gridCol w="1646280"/>
              </a:tblGrid>
              <a:tr h="91440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333036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т,  -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ат, -я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1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глагола 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пределяется по окончанию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2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без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определяется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по инфинитиву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Ко </a:t>
            </a:r>
            <a:r>
              <a:rPr b="1" lang="en-US" sz="4000" spc="-1" strike="noStrike">
                <a:solidFill>
                  <a:srgbClr val="262626"/>
                </a:solidFill>
                <a:latin typeface="Century Gothic"/>
              </a:rPr>
              <a:t>II</a:t>
            </a: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 спряжению глагола относятся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640" y="2014560"/>
            <a:ext cx="80647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се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ы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на –и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кроме брить, стели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7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ов на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–е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идеть, обидеть, смотреть, ненавидеть, зависеть, терпеть, верте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а на  -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а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гнать, держать, слышать, дышать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Все остальные глаголы относятся к 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I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спряжению</a:t>
            </a:r>
            <a:r>
              <a:rPr b="0" lang="ru-RU" sz="22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Разноспрягаемые глаголы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хоте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бежа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чти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и производные от них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ид глагола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озврат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переход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спряжение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Не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наклонение,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время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лицо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число,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род (если есть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2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2296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62626"/>
                </a:solidFill>
                <a:latin typeface="Century Gothic"/>
              </a:rPr>
              <a:t>Инфинитив</a:t>
            </a:r>
            <a:br>
              <a:rPr sz="3600"/>
            </a:b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отвечает на вопросы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с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Показатели инфинитив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Суффиксы  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и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ч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сти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Инфинитив - это </a:t>
            </a:r>
            <a:br>
              <a:rPr sz="3600"/>
            </a:br>
            <a:r>
              <a:rPr b="1" lang="ru-RU" sz="3600" spc="-1" strike="noStrike" u="sng">
                <a:solidFill>
                  <a:srgbClr val="00b050"/>
                </a:solidFill>
                <a:uFillTx/>
                <a:latin typeface="Century Gothic"/>
              </a:rPr>
              <a:t>неизменяемая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форма глагола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этому в предложении может бы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подлежащи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Century Gothic"/>
              </a:rPr>
              <a:t>Читать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– всегда полезно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о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Его желание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труд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мне всегда нравилось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дополн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Я посоветовал ему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обрат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к учителю), входить в состав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глагольного сказуемого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Я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решил продолжить уч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) и т.д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ля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 инфинитив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характерны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категория вида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делать? – несовершенный вид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елать –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вершенный вид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переходность/непереходнос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(сказать (что?) правду – переходный, сказаться больным – непереходный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возвратность/невозвратность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объясниться – объяснить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залог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читать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действи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, читаться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страда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</a:t>
            </a:r>
            <a:r>
              <a:rPr b="1" lang="ru-RU" sz="4400" spc="-1" strike="noStrike">
                <a:solidFill>
                  <a:srgbClr val="00b050"/>
                </a:solidFill>
                <a:latin typeface="Century Gothic"/>
              </a:rPr>
              <a:t>наклонения</a:t>
            </a: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 глагола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Наклонение глагол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– это грамматическая категория, которая выражает отношение действия к реальност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Изъяв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Повел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Сослага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услов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времени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Изменени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глагола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по временам свойственно изъявительному 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наклонению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настоящ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прошедш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будущее время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одержимое 3" descr=""/>
          <p:cNvPicPr/>
          <p:nvPr/>
        </p:nvPicPr>
        <p:blipFill>
          <a:blip r:embed="rId1"/>
          <a:stretch/>
        </p:blipFill>
        <p:spPr>
          <a:xfrm>
            <a:off x="384120" y="609480"/>
            <a:ext cx="8302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5:31:51Z</dcterms:created>
  <dc:creator>Людмила</dc:creator>
  <dc:description/>
  <dc:language>en-US</dc:language>
  <cp:lastModifiedBy>Людмила</cp:lastModifiedBy>
  <dcterms:modified xsi:type="dcterms:W3CDTF">2018-03-11T22:16:55Z</dcterms:modified>
  <cp:revision>23</cp:revision>
  <dc:subject/>
  <dc:title>Глагол как часть речи</dc:title>
</cp:coreProperties>
</file>