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B3E-0834-4113-BFFD-96D5EE11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2BD-3AC7-4892-966D-2DB7BC12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089-5840-4FE3-8308-D26B17D2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C28-4EA9-4677-A6CA-919CA78E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1EF0-4C5C-4D33-BDF1-A431F2AB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09B-7612-46F9-8230-C94A854E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2113-272A-49EB-BCF0-3289004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2A6E-18BD-4846-B366-EFFBD6CD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9490-5741-4EC9-9D9F-A6009217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27F3-D05F-440E-BB81-C8016824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9808-8B24-4608-8F8B-B832ECAC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092-8504-497F-93AF-C46CD6D3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7A53-2F80-45AA-ACC8-DF31D101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4E84-B005-4E1C-BCBC-358B9DC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47A4-43CA-40F0-B0F5-F35F03B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6C43-0F9F-4B65-9A45-F940F156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B479-FDD0-4AE2-9A54-5023EBF7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A30C-8635-453A-94BE-E339F3FD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E4C8-BE90-4D0A-BFE4-7457CA4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9921-4D87-4F84-9B79-CE69E4AC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9A3A-C7B7-4E1C-BCDB-FA66E3A7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A8F4-58F6-4BA0-81EE-9718593B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5A6-19D1-430F-8126-62E97220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474E-AF00-4AF2-B1E2-3EC88278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E9AF-CDBA-40F6-88BD-3D5BDD86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AE44-7592-498E-8608-24BA309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6961-3B75-4852-B692-B4F073A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E678-9B19-4153-AE31-DE249E3C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8D26-5AFC-4ABE-951B-B9736033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BA35-ADD6-483B-B76C-57AE4313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11C9A-27E7-41D4-BE13-97FACF81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467D-B732-4062-BE0D-619407F3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E6DC-2DB5-4A34-A9B4-C5299F94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11B-1ED7-4304-BABD-866BD6E8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F4254-D367-4BCE-B635-A2751F5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CFA1-48DD-428D-982A-901FEDF8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B7B5F-4AEE-4E8B-86F1-699E97F6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CACE-DF0E-4E43-85FC-90A68D6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B741-22D3-41CF-B333-4AF0D0FC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49DEC-7791-4FE1-AE83-2096DC8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2308A-D396-40A9-9696-BCE7ECB0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129F-820C-40DC-9668-BBD09872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BF97F-732C-4264-8224-C9FCA0EB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96E04-DB21-40EE-8998-C754810C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3AD-39FA-4E80-9625-16CEF6A6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EF27E-C3F0-421E-BDC0-361A6949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27AC2-FE7A-46F6-8C7A-23C8AA18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C868-6768-4D48-B669-670E31B2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0F6CF-1808-47D5-9F94-451AE20F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F36A6-BE81-48BC-A9B7-AD3522BA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2565-D550-42D2-AE8C-8D6A2552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3DDD1-1F76-43E3-BFD5-0B7FC54D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4B23C-8297-41E5-8F46-47C024E3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68E70-DB43-4948-AD63-8DDF5ADD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1A78-44ED-4928-951F-4856D59B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E7A-3668-4AD2-B09A-D09E8182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72466-BCCB-46D9-8B67-ECF7C83B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D4C-DA03-4B4B-BF70-6F2BCF3B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815-D531-4615-9CDB-E7829103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888-8C3A-40FD-82AA-C625ABE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C05D3-D301-4611-B241-AFB25073B6D0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1FBCB-C8C2-4235-BF1B-EC8244F4B803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E30C1-EB50-4939-8B75-62839224EF58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F0B1F-257C-432B-A039-B7DF5A441CE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2B1E3-BBE1-4D6A-8BD3-C706C372A64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onstantia"/>
              </a:rPr>
              <a:t>ГЛАГОЛ </a:t>
            </a:r>
            <a:br>
              <a:rPr sz="8000"/>
            </a:br>
            <a:r>
              <a:rPr b="0" lang="ru-RU" sz="6000" spc="-1" strike="noStrike">
                <a:solidFill>
                  <a:srgbClr val="262626"/>
                </a:solidFill>
                <a:latin typeface="Constantia"/>
              </a:rPr>
              <a:t>КАК ЧАСТЬ РЕЧИ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7989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197000"/>
          <a:ext cx="8229600" cy="5433840"/>
        </p:xfrm>
        <a:graphic>
          <a:graphicData uri="http://schemas.openxmlformats.org/drawingml/2006/table">
            <a:tbl>
              <a:tblPr/>
              <a:tblGrid>
                <a:gridCol w="1400040"/>
                <a:gridCol w="1643040"/>
                <a:gridCol w="1643400"/>
                <a:gridCol w="1896840"/>
                <a:gridCol w="1646280"/>
              </a:tblGrid>
              <a:tr h="91440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33036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т,  -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ат, -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1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глагола 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пределяется по окончанию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2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без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определяется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по инфинитив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Ко </a:t>
            </a: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II</a:t>
            </a: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 спряжению глагола относят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2014560"/>
            <a:ext cx="8064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се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ы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на –и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кроме брить, стели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ов на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–е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идеть, обидеть, смотреть, ненавидеть, зависеть, терпеть, верте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а на  -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а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гнать, держать, слышать, дышать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се остальные глаголы относятся к 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I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пряжению</a:t>
            </a:r>
            <a:r>
              <a:rPr b="0" lang="ru-RU" sz="22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Разноспрягаемые глаголы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хоте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чти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и производные от них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ид глагола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озврат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переход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спряжени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Не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наклонение,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время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лицо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число,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род (если есть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29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Инфинитив</a:t>
            </a:r>
            <a:br>
              <a:rPr sz="3600"/>
            </a:b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твечает на вопросы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Показатели инфинитив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Суффиксы  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и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ч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ст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Инфинитив - это </a:t>
            </a:r>
            <a:br>
              <a:rPr sz="3600"/>
            </a:br>
            <a:r>
              <a:rPr b="1" lang="ru-RU" sz="3600" spc="-1" strike="noStrike" u="sng">
                <a:solidFill>
                  <a:srgbClr val="00b050"/>
                </a:solidFill>
                <a:uFillTx/>
                <a:latin typeface="Century Gothic"/>
              </a:rPr>
              <a:t>неизменяема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форма глагола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этому в предложении может бы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подлежащи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entury Gothic"/>
              </a:rPr>
              <a:t>Читать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 всегда полезно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Его желание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труд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мне всегда нравилось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дополн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Я посоветовал ему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обрат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к учителю), входить в состав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глагольного сказуемого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Я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решил продолж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) и т.д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 инфинитив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арактерны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категория вид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делать? – несовершенный ви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лать –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вершенный в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ереходность/непереход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сказать (что?) правду – переходный, сказаться больным – непереходный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возвратность/невозвратность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объясниться – объяснить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залог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читать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действи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, читаться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страда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</a:t>
            </a:r>
            <a:r>
              <a:rPr b="1" lang="ru-RU" sz="4400" spc="-1" strike="noStrike">
                <a:solidFill>
                  <a:srgbClr val="00b050"/>
                </a:solidFill>
                <a:latin typeface="Century Gothic"/>
              </a:rPr>
              <a:t>наклонения</a:t>
            </a: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 глагола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Наклонение глаго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это грамматическая категория, которая выражает отношение действия к реальнос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Изъяв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Повел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Сослага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услов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времени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Изменени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глагола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по временам свойственно изъявительному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наклонению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настоящ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прошедш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будущее врем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30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51Z</dcterms:created>
  <dc:creator>Людмила</dc:creator>
  <dc:description/>
  <dc:language>en-US</dc:language>
  <cp:lastModifiedBy>Людмила</cp:lastModifiedBy>
  <dcterms:modified xsi:type="dcterms:W3CDTF">2018-03-11T22:16:55Z</dcterms:modified>
  <cp:revision>23</cp:revision>
  <dc:subject/>
  <dc:title>Глагол как часть речи</dc:title>
</cp:coreProperties>
</file>