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143-5F8F-4354-8141-F8027A74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EDF-62E3-465E-9C0B-29CCE195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CDE-C656-4820-9D7E-6EF8EED3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936-0405-4EBC-9C3A-06BB30DF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B9F8-40CF-453B-9C03-D7B6309A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2B03-A503-43CA-AE11-1EC0E24E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B6AB-1FFF-4FF2-B905-1C07F52F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1D87-2A49-44E9-95AE-FEABE9AC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74D4-C457-4B9E-882D-EED99F3D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C62D-E7A4-4CB1-8240-A03C0D8C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FF4A-00EA-446F-A600-12042F4B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329F-F582-4C28-8878-EB6293E5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EB71-B307-4AAC-B1A4-5996754B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595B-C77D-4F35-B9CE-AD5BDD7F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661C-13E1-4E63-AE45-1418EA8A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5274-A0BC-4374-8896-0E5EB0C0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0DC3-D99A-4266-90B9-44FC9A84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5900A-1EFE-423C-B3A4-DBD2BCAC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98B83-EB06-4891-8902-9A164AEF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27BBA-A393-46CA-A69B-89D309FE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BF2B2-0FBE-44A1-9C5A-A0239DBC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4C01A-0E00-424A-A350-0A6DA8C9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B240-A342-406F-9188-7058E2BF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32581-7A9F-44A6-8E01-AACD86B9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918AF-F68B-4A30-9C71-02DAE99C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3A542-E03C-45DF-BD2E-2D34434A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8B48C-EF27-4D71-A0C2-4D4D6784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207CF-F9D2-423F-94BF-803E595E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511CF-AF6D-4A50-89A8-D6E06AC6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15313-8A28-49B7-941A-5FC6929A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0F080-BF20-47CF-9CE2-DB30D2C6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06829-131A-4E5D-A8D2-E17884DA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A2114-94C5-4D9A-84F7-8C823C25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E79A-E627-40F1-ABFA-747CF649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58AC5-223E-44F9-80E9-D800D138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47130-255D-454D-AD42-F0950C05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60696-5921-4F30-AD49-A5FA2035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A14F1-D7F9-4D40-ABD5-2F1615EB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291B1-75B3-4120-A333-D3CCA259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73F96-A1EC-48EE-A955-66C32D67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4CD7C-EECA-445E-80B6-527FA30B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2626A-C308-4D5F-BBCC-A26C0A60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B238F-CEBD-4622-A7B6-FF90B83E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A55F0-7792-421C-96CE-388779F3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5B4-C597-42BE-A37F-0A1BEF73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507F3-C265-43C0-9188-3BE87080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F2943-E28F-4288-92F6-A24C02B2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51A2C-BFDC-402E-9AD9-36EF0614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7B8A6-7265-46C0-99D4-E9C39BF7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2F2CB-FB1E-4394-8B4B-C9BE4FED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CA467-5299-4F1B-8291-2B162BE3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8985A-2916-4F75-92CE-D32259C7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C95F7-7AD9-4C5D-A395-DA2118EE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2A68F-6AD8-4BAC-98F3-14565980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0B39C-B1D6-4752-817C-429EAD43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9FF-279B-4201-959F-4A6BEFDD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F2745-BB91-43C3-87B9-896BB558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B97-3930-4282-9F98-D174DBCC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1F7-8451-454E-828D-F49B24BC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295-7E17-4E05-8549-C3B9CCB3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176040" y="176040"/>
            <a:ext cx="8791920" cy="6510240"/>
            <a:chOff x="176040" y="176040"/>
            <a:chExt cx="8791920" cy="65102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176040" y="178560"/>
              <a:ext cx="8791920" cy="65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76040" y="176040"/>
              <a:ext cx="8791920" cy="65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8228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4CAFA-7E60-406D-9910-715DBEC277F4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7" name="Rectangle 9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48" name="Rectangle 9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" name="Rectangle 10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53" name="Straight Connector 16"/>
            <p:cNvSpPr/>
            <p:nvPr/>
          </p:nvSpPr>
          <p:spPr>
            <a:xfrm>
              <a:off x="38862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52578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" name="Straight Connector 18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932280" y="13273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104480" y="5211360"/>
            <a:ext cx="4429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454440" y="5211360"/>
            <a:ext cx="1584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A0C33-E35B-4F2C-B2EC-115BADD9E545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Rectangle 2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0" name="Rectangle 22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101" name="Rectangle 22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3" name="Rectangle 23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106" name="Straight Connector 31"/>
            <p:cNvSpPr/>
            <p:nvPr/>
          </p:nvSpPr>
          <p:spPr>
            <a:xfrm>
              <a:off x="38862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Straight Connector 32"/>
            <p:cNvSpPr/>
            <p:nvPr/>
          </p:nvSpPr>
          <p:spPr>
            <a:xfrm>
              <a:off x="52578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Straight Connector 33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932280" y="13255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104840" y="5211360"/>
            <a:ext cx="443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453360" y="5211360"/>
            <a:ext cx="158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691A3-2329-491C-B8B2-987EC5AE0B72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184320" y="173160"/>
            <a:ext cx="6399000" cy="65116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7794360" y="6310080"/>
            <a:ext cx="1098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12614-F7D4-4610-A9E6-96526684E0E1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7976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E28CE-D1A3-4601-91EC-04C297689231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495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62626"/>
                </a:solidFill>
                <a:latin typeface="Constantia"/>
              </a:rPr>
              <a:t>ГЛАГОЛ </a:t>
            </a:r>
            <a:br>
              <a:rPr sz="8000"/>
            </a:br>
            <a:r>
              <a:rPr b="0" lang="ru-RU" sz="6000" spc="-1" strike="noStrike">
                <a:solidFill>
                  <a:srgbClr val="262626"/>
                </a:solidFill>
                <a:latin typeface="Constantia"/>
              </a:rPr>
              <a:t>КАК ЧАСТЬ РЕЧИ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68360" y="2852640"/>
            <a:ext cx="7989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Спряжение глагола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57200" y="1197000"/>
          <a:ext cx="8229600" cy="5433840"/>
        </p:xfrm>
        <a:graphic>
          <a:graphicData uri="http://schemas.openxmlformats.org/drawingml/2006/table">
            <a:tbl>
              <a:tblPr/>
              <a:tblGrid>
                <a:gridCol w="1400040"/>
                <a:gridCol w="1643040"/>
                <a:gridCol w="1643400"/>
                <a:gridCol w="1896840"/>
                <a:gridCol w="1646280"/>
              </a:tblGrid>
              <a:tr h="91440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пря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gridSpan="2"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иц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д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н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д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н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333036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, -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т,  -ю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, -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и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и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ат, -я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Спряжение глагола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1. Если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кончание глагола ударное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, то спряжение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пределяется по окончанию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2. Если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кончание безударное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, то спряжение определяется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по инфинитиву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Ко </a:t>
            </a:r>
            <a:r>
              <a:rPr b="1" lang="en-US" sz="4000" spc="-1" strike="noStrike">
                <a:solidFill>
                  <a:srgbClr val="262626"/>
                </a:solidFill>
                <a:latin typeface="Century Gothic"/>
              </a:rPr>
              <a:t>II</a:t>
            </a: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 спряжению глагола относятся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640" y="2014560"/>
            <a:ext cx="80647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все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ы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на –ить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кроме брить, стели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7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ов на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–еть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видеть, обидеть, смотреть, ненавидеть, зависеть, терпеть, верте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4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а на  -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а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гнать, держать, слышать, дышать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Все остальные глаголы относятся к </a:t>
            </a:r>
            <a:r>
              <a:rPr b="1" lang="en-US" sz="2600" spc="-1" strike="noStrike">
                <a:solidFill>
                  <a:srgbClr val="ff0000"/>
                </a:solidFill>
                <a:latin typeface="Century Gothic"/>
              </a:rPr>
              <a:t>I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спряжению</a:t>
            </a:r>
            <a:r>
              <a:rPr b="0" lang="ru-RU" sz="22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Разноспрягаемые глаголы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хоте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бежа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чти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и производные от них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Постоянные признаки глагол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вид глагола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возвратность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переходность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спряжение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Непостоянные признаки глагол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наклонение,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время (если есть),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лицо (если есть),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число, 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род (если есть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Содержимое 2" descr=""/>
          <p:cNvPicPr/>
          <p:nvPr/>
        </p:nvPicPr>
        <p:blipFill>
          <a:blip r:embed="rId1"/>
          <a:stretch/>
        </p:blipFill>
        <p:spPr>
          <a:xfrm>
            <a:off x="457200" y="390600"/>
            <a:ext cx="82296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62626"/>
                </a:solidFill>
                <a:latin typeface="Century Gothic"/>
              </a:rPr>
              <a:t>Инфинитив</a:t>
            </a:r>
            <a:br>
              <a:rPr sz="3600"/>
            </a:b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отвечает на вопросы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что делать?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     </a:t>
            </a: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что сделать?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Показатели инфинитив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Суффиксы   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ть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ти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чь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сти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Инфинитив - это </a:t>
            </a:r>
            <a:br>
              <a:rPr sz="3600"/>
            </a:br>
            <a:r>
              <a:rPr b="1" lang="ru-RU" sz="3600" spc="-1" strike="noStrike" u="sng">
                <a:solidFill>
                  <a:srgbClr val="00b050"/>
                </a:solidFill>
                <a:uFillTx/>
                <a:latin typeface="Century Gothic"/>
              </a:rPr>
              <a:t>неизменяемая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 форма глагола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,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оэтому в предложении может быть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подлежащи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Century Gothic"/>
              </a:rPr>
              <a:t>Читать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– всегда полезно.),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о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Его желание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труд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мне всегда нравилось.),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дополнение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Я посоветовал ему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обрат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к учителю), входить в состав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глагольного сказуемого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(Я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решил продолжить уч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) и т.д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ля</a:t>
            </a: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 инфинитива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характерны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1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категория вида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то делать? – несовершенный вид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то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елать –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вершенный вид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2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переходность/непереходность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(сказать (что?) правду – переходный, сказаться больным – непереходный)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3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возвратность/невозвратность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объясниться – объяснить)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4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залог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читать –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действительный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, читаться –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страдательный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Категория </a:t>
            </a:r>
            <a:r>
              <a:rPr b="1" lang="ru-RU" sz="4400" spc="-1" strike="noStrike">
                <a:solidFill>
                  <a:srgbClr val="00b050"/>
                </a:solidFill>
                <a:latin typeface="Century Gothic"/>
              </a:rPr>
              <a:t>наклонения</a:t>
            </a: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 глагола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Наклонение глагола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– это грамматическая категория, которая выражает отношение действия к реальности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83c6"/>
                </a:solidFill>
                <a:latin typeface="Century Gothic"/>
              </a:rPr>
              <a:t>Изъяви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83c6"/>
                </a:solidFill>
                <a:latin typeface="Century Gothic"/>
              </a:rPr>
              <a:t>Повели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83c6"/>
                </a:solidFill>
                <a:latin typeface="Century Gothic"/>
              </a:rPr>
              <a:t>Сослага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ru-RU" sz="2800" spc="-1" strike="noStrike">
                <a:solidFill>
                  <a:srgbClr val="2683c6"/>
                </a:solidFill>
                <a:latin typeface="Century Gothic"/>
              </a:rPr>
              <a:t>услов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)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Категория времени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ru-RU" sz="3600" spc="-1" strike="noStrike">
                <a:solidFill>
                  <a:srgbClr val="00b050"/>
                </a:solidFill>
                <a:latin typeface="Century Gothic"/>
              </a:rPr>
              <a:t>Изменение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 глагола </a:t>
            </a:r>
            <a:r>
              <a:rPr b="1" lang="ru-RU" sz="3600" spc="-1" strike="noStrike">
                <a:solidFill>
                  <a:srgbClr val="00b050"/>
                </a:solidFill>
                <a:latin typeface="Century Gothic"/>
              </a:rPr>
              <a:t>по временам свойственно изъявительному 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наклонению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настоящее время;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прошедшее время;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будущее время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Содержимое 3" descr=""/>
          <p:cNvPicPr/>
          <p:nvPr/>
        </p:nvPicPr>
        <p:blipFill>
          <a:blip r:embed="rId1"/>
          <a:stretch/>
        </p:blipFill>
        <p:spPr>
          <a:xfrm>
            <a:off x="384120" y="609480"/>
            <a:ext cx="83026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5:31:51Z</dcterms:created>
  <dc:creator>Людмила</dc:creator>
  <dc:description/>
  <dc:language>en-US</dc:language>
  <cp:lastModifiedBy>Людмила</cp:lastModifiedBy>
  <dcterms:modified xsi:type="dcterms:W3CDTF">2018-03-11T22:16:55Z</dcterms:modified>
  <cp:revision>23</cp:revision>
  <dc:subject/>
  <dc:title>Глагол как часть речи</dc:title>
</cp:coreProperties>
</file>