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4879-9331-43AA-A012-60EF4C4EB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E58D-4972-4657-92E1-590300BF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9EB7-AA82-4550-BE57-8790D5FEA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935A-5E57-431E-89A3-0D92D2BA3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BB29-F241-46A0-A31E-6539D61F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47A9-8DCB-4A6D-9FC7-63711D34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CDC6-C8C5-4BA8-9F0F-E9AFBEC4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0BB2-C37E-4306-9D9D-C5B59500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A107-204D-4CCC-90BF-4FA21DD7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43B8-5323-43A0-86D9-DBEA317B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5E87-F49D-49A1-BF71-6630D992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DD13-5DB5-4A01-869A-CC70C914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4421-BF79-40EF-A54D-5C2E4E058D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357120" y="1947960"/>
            <a:ext cx="8429760" cy="2104920"/>
          </a:xfrm>
          <a:prstGeom prst="rect">
            <a:avLst/>
          </a:prstGeom>
          <a:noFill/>
          <a:ln cap="rnd" w="38160">
            <a:solidFill>
              <a:srgbClr val="66ff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6ff33"/>
                </a:solidFill>
                <a:latin typeface="Monotype Corsiva"/>
              </a:rPr>
              <a:t>Личные окончания глаголо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324000" y="115920"/>
            <a:ext cx="8624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  каком ряду во всех словах пишется  А(Я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) кле..т, крош..тся, задобр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бор..тся,  содерж..тся, появ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) преврат..тся, вылеч..т, постел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) бре..тся,  выкуп..т, замен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395280" y="2637000"/>
            <a:ext cx="8300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  каком ряду во всех словах пишется  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) смел..т,  меч..шься, загон..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шепч..шься,  объемл..т, разговор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) вылет..м,  вылеч..шься, занавес..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) обид..шься,  бре..мся,  задерж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7596360" y="1773360"/>
            <a:ext cx="1150920" cy="609480"/>
          </a:xfrm>
          <a:custGeom>
            <a:avLst/>
            <a:gdLst>
              <a:gd name="textAreaLeft" fmla="*/ 287640 w 1150920"/>
              <a:gd name="textAreaRight" fmla="*/ 863280 w 11509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7929720" y="4365720"/>
            <a:ext cx="1214280" cy="60948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0" descr="009b"/>
          <p:cNvPicPr/>
          <p:nvPr/>
        </p:nvPicPr>
        <p:blipFill>
          <a:blip r:embed="rId1"/>
          <a:stretch/>
        </p:blipFill>
        <p:spPr>
          <a:xfrm>
            <a:off x="4932360" y="5229360"/>
            <a:ext cx="1655640" cy="1444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cliparts02"/>
          <p:cNvPicPr/>
          <p:nvPr/>
        </p:nvPicPr>
        <p:blipFill>
          <a:blip r:embed="rId2"/>
          <a:stretch/>
        </p:blipFill>
        <p:spPr>
          <a:xfrm>
            <a:off x="1476360" y="4984920"/>
            <a:ext cx="9270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395280" y="0"/>
            <a:ext cx="84438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  каком ряду во всех словах пишется  А(Я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) рассе..тся, выуч..тся, задра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ненавид..т, намалю..т,  подыш..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) поброд...т,  брезж..т, колебл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) поглад..т,  услыш..т,  выгон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627120" y="2708280"/>
            <a:ext cx="8516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  каком ряду во всех словах пишется  У(Ю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) исключ..т, спряч..т, приготов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выстел..т, бор..тся,  кол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) выруб..т, свид..тся, застон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) пол..т, се..т,  невзлюб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7740720" y="1989000"/>
            <a:ext cx="1079280" cy="609840"/>
          </a:xfrm>
          <a:custGeom>
            <a:avLst/>
            <a:gdLst>
              <a:gd name="textAreaLeft" fmla="*/ 269640 w 1079280"/>
              <a:gd name="textAreaRight" fmla="*/ 809640 w 1079280"/>
              <a:gd name="textAreaTop" fmla="*/ 0 h 609840"/>
              <a:gd name="textAreaBottom" fmla="*/ 533880 h 609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7451640" y="450864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009b"/>
          <p:cNvPicPr/>
          <p:nvPr/>
        </p:nvPicPr>
        <p:blipFill>
          <a:blip r:embed="rId1"/>
          <a:stretch/>
        </p:blipFill>
        <p:spPr>
          <a:xfrm>
            <a:off x="5219640" y="5157720"/>
            <a:ext cx="1656000" cy="1443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liparts02"/>
          <p:cNvPicPr/>
          <p:nvPr/>
        </p:nvPicPr>
        <p:blipFill>
          <a:blip r:embed="rId2"/>
          <a:stretch/>
        </p:blipFill>
        <p:spPr>
          <a:xfrm>
            <a:off x="1835280" y="4986360"/>
            <a:ext cx="927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ecf8a6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равописание безударных личных окончаний глаг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6"/>
          <p:cNvSpPr/>
          <p:nvPr/>
        </p:nvSpPr>
        <p:spPr>
          <a:xfrm>
            <a:off x="1241640" y="639720"/>
            <a:ext cx="63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 Глаголы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пряжения различаются оконча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11280" y="981000"/>
          <a:ext cx="8208720" cy="576360"/>
        </p:xfrm>
        <a:graphic>
          <a:graphicData uri="http://schemas.openxmlformats.org/drawingml/2006/table">
            <a:tbl>
              <a:tblPr/>
              <a:tblGrid>
                <a:gridCol w="1439640"/>
                <a:gridCol w="3600720"/>
                <a:gridCol w="31683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45" name="Text Box 65"/>
          <p:cNvSpPr/>
          <p:nvPr/>
        </p:nvSpPr>
        <p:spPr>
          <a:xfrm>
            <a:off x="829080" y="10526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ц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6"/>
          <p:cNvSpPr/>
          <p:nvPr/>
        </p:nvSpPr>
        <p:spPr>
          <a:xfrm>
            <a:off x="2844360" y="1052640"/>
            <a:ext cx="154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пр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0"/>
          <p:cNvSpPr/>
          <p:nvPr/>
        </p:nvSpPr>
        <p:spPr>
          <a:xfrm>
            <a:off x="6373440" y="1052640"/>
            <a:ext cx="160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пр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3"/>
          <p:cNvSpPr/>
          <p:nvPr/>
        </p:nvSpPr>
        <p:spPr>
          <a:xfrm>
            <a:off x="737280" y="164772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-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4"/>
          <p:cNvSpPr/>
          <p:nvPr/>
        </p:nvSpPr>
        <p:spPr>
          <a:xfrm>
            <a:off x="2051640" y="162864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я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у (-ю)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5"/>
          <p:cNvSpPr/>
          <p:nvPr/>
        </p:nvSpPr>
        <p:spPr>
          <a:xfrm>
            <a:off x="3926520" y="162864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мы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е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6"/>
          <p:cNvSpPr/>
          <p:nvPr/>
        </p:nvSpPr>
        <p:spPr>
          <a:xfrm>
            <a:off x="5797440" y="162864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у(-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7"/>
          <p:cNvSpPr/>
          <p:nvPr/>
        </p:nvSpPr>
        <p:spPr>
          <a:xfrm>
            <a:off x="7452720" y="162864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8"/>
          <p:cNvSpPr/>
          <p:nvPr/>
        </p:nvSpPr>
        <p:spPr>
          <a:xfrm>
            <a:off x="757800" y="19162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-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9"/>
          <p:cNvSpPr/>
          <p:nvPr/>
        </p:nvSpPr>
        <p:spPr>
          <a:xfrm>
            <a:off x="1982160" y="191628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ты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е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0"/>
          <p:cNvSpPr/>
          <p:nvPr/>
        </p:nvSpPr>
        <p:spPr>
          <a:xfrm>
            <a:off x="3926160" y="191628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вы)  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е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1"/>
          <p:cNvSpPr/>
          <p:nvPr/>
        </p:nvSpPr>
        <p:spPr>
          <a:xfrm>
            <a:off x="5797440" y="1916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2"/>
          <p:cNvSpPr/>
          <p:nvPr/>
        </p:nvSpPr>
        <p:spPr>
          <a:xfrm>
            <a:off x="7381800" y="19162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3"/>
          <p:cNvSpPr/>
          <p:nvPr/>
        </p:nvSpPr>
        <p:spPr>
          <a:xfrm>
            <a:off x="757800" y="22050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-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4"/>
          <p:cNvSpPr/>
          <p:nvPr/>
        </p:nvSpPr>
        <p:spPr>
          <a:xfrm>
            <a:off x="1980360" y="220500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он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е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5"/>
          <p:cNvSpPr/>
          <p:nvPr/>
        </p:nvSpPr>
        <p:spPr>
          <a:xfrm>
            <a:off x="3709440" y="2205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они)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у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(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ю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6"/>
          <p:cNvSpPr/>
          <p:nvPr/>
        </p:nvSpPr>
        <p:spPr>
          <a:xfrm>
            <a:off x="5940360" y="2205000"/>
            <a:ext cx="8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7"/>
          <p:cNvSpPr/>
          <p:nvPr/>
        </p:nvSpPr>
        <p:spPr>
          <a:xfrm>
            <a:off x="7396200" y="2205000"/>
            <a:ext cx="17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а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я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8"/>
          <p:cNvSpPr/>
          <p:nvPr/>
        </p:nvSpPr>
        <p:spPr>
          <a:xfrm>
            <a:off x="611280" y="1557360"/>
            <a:ext cx="0" cy="100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9"/>
          <p:cNvSpPr/>
          <p:nvPr/>
        </p:nvSpPr>
        <p:spPr>
          <a:xfrm>
            <a:off x="2050920" y="1557360"/>
            <a:ext cx="0" cy="100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0"/>
          <p:cNvSpPr/>
          <p:nvPr/>
        </p:nvSpPr>
        <p:spPr>
          <a:xfrm>
            <a:off x="3708360" y="1557360"/>
            <a:ext cx="0" cy="1006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93"/>
          <p:cNvSpPr/>
          <p:nvPr/>
        </p:nvSpPr>
        <p:spPr>
          <a:xfrm>
            <a:off x="5651640" y="1557360"/>
            <a:ext cx="0" cy="100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4"/>
          <p:cNvSpPr/>
          <p:nvPr/>
        </p:nvSpPr>
        <p:spPr>
          <a:xfrm>
            <a:off x="8820000" y="1557360"/>
            <a:ext cx="0" cy="100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95"/>
          <p:cNvSpPr/>
          <p:nvPr/>
        </p:nvSpPr>
        <p:spPr>
          <a:xfrm>
            <a:off x="611280" y="2565360"/>
            <a:ext cx="8208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6"/>
          <p:cNvSpPr/>
          <p:nvPr/>
        </p:nvSpPr>
        <p:spPr>
          <a:xfrm>
            <a:off x="7236000" y="1557360"/>
            <a:ext cx="0" cy="100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7"/>
          <p:cNvSpPr/>
          <p:nvPr/>
        </p:nvSpPr>
        <p:spPr>
          <a:xfrm>
            <a:off x="338760" y="2781360"/>
            <a:ext cx="8632800" cy="91692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2. Чтобы не ошибиться в написании личного окончания глагола, нуж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пределить его спряжение. Для этого глагол необходимо поставить в </a:t>
            </a:r>
            <a:r>
              <a:rPr b="1" lang="ru-RU" sz="1800" spc="-1" strike="noStrike" u="sng">
                <a:solidFill>
                  <a:srgbClr val="006600"/>
                </a:solidFill>
                <a:uFillTx/>
                <a:latin typeface="Arial"/>
              </a:rPr>
              <a:t>н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6600"/>
                </a:solidFill>
                <a:uFillTx/>
                <a:latin typeface="Arial"/>
              </a:rPr>
              <a:t>чальную (неопределённую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) форму, не изменяя вида глаго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8"/>
          <p:cNvSpPr/>
          <p:nvPr/>
        </p:nvSpPr>
        <p:spPr>
          <a:xfrm>
            <a:off x="550800" y="3789360"/>
            <a:ext cx="7907400" cy="368280"/>
          </a:xfrm>
          <a:prstGeom prst="rect">
            <a:avLst/>
          </a:prstGeom>
          <a:solidFill>
            <a:srgbClr val="cce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бор..мся (что делаем?  -  что делать?) бороться.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пр. – пишу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 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9"/>
          <p:cNvSpPr/>
          <p:nvPr/>
        </p:nvSpPr>
        <p:spPr>
          <a:xfrm>
            <a:off x="481320" y="4221000"/>
            <a:ext cx="8389080" cy="368280"/>
          </a:xfrm>
          <a:prstGeom prst="rect">
            <a:avLst/>
          </a:prstGeom>
          <a:solidFill>
            <a:srgbClr val="cce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закле..шь (что сделаешь? – что сделать?) заклеить.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I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пр. – пишу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 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1"/>
          <p:cNvSpPr/>
          <p:nvPr/>
        </p:nvSpPr>
        <p:spPr>
          <a:xfrm>
            <a:off x="0" y="4724280"/>
            <a:ext cx="2700360" cy="2129400"/>
          </a:xfrm>
          <a:prstGeom prst="rect">
            <a:avLst/>
          </a:prstGeom>
          <a:solidFill>
            <a:srgbClr val="ffcc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р. относя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глаголы на –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ть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4 глагола на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ать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гнать     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держать    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дышать 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слыш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4"/>
          <p:cNvSpPr/>
          <p:nvPr/>
        </p:nvSpPr>
        <p:spPr>
          <a:xfrm>
            <a:off x="2700360" y="5383080"/>
            <a:ext cx="2863800" cy="1341720"/>
          </a:xfrm>
          <a:prstGeom prst="rect">
            <a:avLst/>
          </a:prstGeom>
          <a:solidFill>
            <a:srgbClr val="ffcc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7 глаголов 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еть смотреть,  видеть, ненавидеть, терпеть, вертеть, обидеть, зависе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6"/>
          <p:cNvSpPr/>
          <p:nvPr/>
        </p:nvSpPr>
        <p:spPr>
          <a:xfrm>
            <a:off x="5992920" y="5084640"/>
            <a:ext cx="3151080" cy="1465560"/>
          </a:xfrm>
          <a:prstGeom prst="rect">
            <a:avLst/>
          </a:prstGeom>
          <a:solidFill>
            <a:srgbClr val="cc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остальные глаголы относятся к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ряж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глагола-исключения: 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брить, стел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7"/>
          <p:cNvSpPr/>
          <p:nvPr/>
        </p:nvSpPr>
        <p:spPr>
          <a:xfrm>
            <a:off x="5724360" y="4653000"/>
            <a:ext cx="0" cy="2205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500"/>
                            </p:stCondLst>
                            <p:childTnLst>
                              <p:par>
                                <p:cTn id="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000"/>
                            </p:stCondLst>
                            <p:childTnLst>
                              <p:par>
                                <p:cTn id="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750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500"/>
                            </p:stCondLst>
                            <p:childTnLst>
                              <p:par>
                                <p:cTn id="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800"/>
                            </p:stCondLst>
                            <p:childTnLst>
                              <p:par>
                                <p:cTn id="8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400"/>
                            </p:stCondLst>
                            <p:childTnLst>
                              <p:par>
                                <p:cTn id="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400"/>
                            </p:stCondLst>
                            <p:childTnLst>
                              <p:par>
                                <p:cTn id="1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7100"/>
                            </p:stCondLst>
                            <p:childTnLst>
                              <p:par>
                                <p:cTn id="1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8800"/>
                            </p:stCondLst>
                            <p:childTnLst>
                              <p:par>
                                <p:cTn id="1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800"/>
                            </p:stCondLst>
                            <p:childTnLst>
                              <p:par>
                                <p:cTn id="11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1400"/>
                            </p:stCondLst>
                            <p:childTnLst>
                              <p:par>
                                <p:cTn id="12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3600"/>
                            </p:stCondLst>
                            <p:childTnLst>
                              <p:par>
                                <p:cTn id="1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4100"/>
                            </p:stCondLst>
                            <p:childTnLst>
                              <p:par>
                                <p:cTn id="1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100"/>
                            </p:stCondLst>
                            <p:childTnLst>
                              <p:par>
                                <p:cTn id="1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6100"/>
                            </p:stCondLst>
                            <p:childTnLst>
                              <p:par>
                                <p:cTn id="1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7100"/>
                            </p:stCondLst>
                            <p:childTnLst>
                              <p:par>
                                <p:cTn id="1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8100"/>
                            </p:stCondLst>
                            <p:childTnLst>
                              <p:par>
                                <p:cTn id="1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9100"/>
                            </p:stCondLst>
                            <p:childTnLst>
                              <p:par>
                                <p:cTn id="1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100"/>
                            </p:stCondLst>
                            <p:childTnLst>
                              <p:par>
                                <p:cTn id="18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8400"/>
                            </p:stCondLst>
                            <p:childTnLst>
                              <p:par>
                                <p:cTn id="2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6900"/>
                            </p:stCondLst>
                            <p:childTnLst>
                              <p:par>
                                <p:cTn id="2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332000" y="0"/>
            <a:ext cx="6048360" cy="825480"/>
          </a:xfrm>
          <a:prstGeom prst="rect">
            <a:avLst/>
          </a:prstGeom>
          <a:solidFill>
            <a:srgbClr val="ffcc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горитм  действ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лагол заканчивается на   -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ит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 flipH="1">
            <a:off x="1476360" y="836640"/>
            <a:ext cx="2664000" cy="216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198440" y="1125360"/>
            <a:ext cx="513000" cy="368280"/>
          </a:xfrm>
          <a:prstGeom prst="rect">
            <a:avLst/>
          </a:prstGeom>
          <a:solidFill>
            <a:srgbClr val="ff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4140360" y="836640"/>
            <a:ext cx="2376360" cy="216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6096240" y="1134000"/>
            <a:ext cx="648720" cy="368280"/>
          </a:xfrm>
          <a:prstGeom prst="rect">
            <a:avLst/>
          </a:prstGeom>
          <a:solidFill>
            <a:srgbClr val="ffff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468360" y="1844640"/>
            <a:ext cx="2181240" cy="1191240"/>
          </a:xfrm>
          <a:prstGeom prst="rect">
            <a:avLst/>
          </a:prstGeom>
          <a:solidFill>
            <a:srgbClr val="ff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носится к исключениям?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(брить, стелить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4284720" y="1773360"/>
            <a:ext cx="4427640" cy="1465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носится к исключения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(гнать, держать, дышать, слыш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мотреть, видеть, ненавидеть, терпеть, вертеть, обидеть, зависе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06080" y="3213000"/>
            <a:ext cx="513000" cy="368280"/>
          </a:xfrm>
          <a:prstGeom prst="rect">
            <a:avLst/>
          </a:prstGeom>
          <a:solidFill>
            <a:srgbClr val="66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990800" y="3213000"/>
            <a:ext cx="712800" cy="36828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7319880" y="3716280"/>
            <a:ext cx="712800" cy="368280"/>
          </a:xfrm>
          <a:prstGeom prst="rect">
            <a:avLst/>
          </a:prstGeom>
          <a:solidFill>
            <a:srgbClr val="66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4943520" y="3789360"/>
            <a:ext cx="448920" cy="36828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259920" y="4148280"/>
            <a:ext cx="1040400" cy="459720"/>
          </a:xfrm>
          <a:prstGeom prst="rect">
            <a:avLst/>
          </a:prstGeom>
          <a:solidFill>
            <a:srgbClr val="66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р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7245000" y="4651200"/>
            <a:ext cx="1040400" cy="459720"/>
          </a:xfrm>
          <a:prstGeom prst="rect">
            <a:avLst/>
          </a:prstGeom>
          <a:solidFill>
            <a:srgbClr val="66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пр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1835280" y="4149720"/>
            <a:ext cx="1152360" cy="45972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пр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8"/>
          <p:cNvSpPr/>
          <p:nvPr/>
        </p:nvSpPr>
        <p:spPr>
          <a:xfrm>
            <a:off x="4643280" y="4724280"/>
            <a:ext cx="1081080" cy="45972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п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190080" y="5373720"/>
            <a:ext cx="1278360" cy="825480"/>
          </a:xfrm>
          <a:prstGeom prst="rect">
            <a:avLst/>
          </a:prstGeom>
          <a:solidFill>
            <a:srgbClr val="66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-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0"/>
          <p:cNvSpPr/>
          <p:nvPr/>
        </p:nvSpPr>
        <p:spPr>
          <a:xfrm>
            <a:off x="7030080" y="5589720"/>
            <a:ext cx="1356120" cy="825480"/>
          </a:xfrm>
          <a:prstGeom prst="rect">
            <a:avLst/>
          </a:prstGeom>
          <a:solidFill>
            <a:srgbClr val="66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(-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1"/>
          <p:cNvSpPr/>
          <p:nvPr/>
        </p:nvSpPr>
        <p:spPr>
          <a:xfrm>
            <a:off x="1701360" y="5373720"/>
            <a:ext cx="1384920" cy="82548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(-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2"/>
          <p:cNvSpPr/>
          <p:nvPr/>
        </p:nvSpPr>
        <p:spPr>
          <a:xfrm>
            <a:off x="4510080" y="5589720"/>
            <a:ext cx="1320840" cy="82548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(-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3"/>
          <p:cNvSpPr/>
          <p:nvPr/>
        </p:nvSpPr>
        <p:spPr>
          <a:xfrm>
            <a:off x="1476360" y="1557360"/>
            <a:ext cx="0" cy="216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4"/>
          <p:cNvSpPr/>
          <p:nvPr/>
        </p:nvSpPr>
        <p:spPr>
          <a:xfrm flipH="1">
            <a:off x="684360" y="2781360"/>
            <a:ext cx="863280" cy="360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1547640" y="2781360"/>
            <a:ext cx="720720" cy="360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684360" y="3645000"/>
            <a:ext cx="0" cy="504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7"/>
          <p:cNvSpPr/>
          <p:nvPr/>
        </p:nvSpPr>
        <p:spPr>
          <a:xfrm>
            <a:off x="2340000" y="3645000"/>
            <a:ext cx="0" cy="504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8"/>
          <p:cNvSpPr/>
          <p:nvPr/>
        </p:nvSpPr>
        <p:spPr>
          <a:xfrm>
            <a:off x="684360" y="4653000"/>
            <a:ext cx="0" cy="649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9"/>
          <p:cNvSpPr/>
          <p:nvPr/>
        </p:nvSpPr>
        <p:spPr>
          <a:xfrm>
            <a:off x="2340000" y="4653000"/>
            <a:ext cx="0" cy="649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0"/>
          <p:cNvSpPr/>
          <p:nvPr/>
        </p:nvSpPr>
        <p:spPr>
          <a:xfrm>
            <a:off x="3851280" y="1773360"/>
            <a:ext cx="0" cy="4680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557360"/>
            <a:ext cx="0" cy="216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2"/>
          <p:cNvSpPr/>
          <p:nvPr/>
        </p:nvSpPr>
        <p:spPr>
          <a:xfrm flipH="1">
            <a:off x="5076720" y="3284640"/>
            <a:ext cx="1440000" cy="360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3"/>
          <p:cNvSpPr/>
          <p:nvPr/>
        </p:nvSpPr>
        <p:spPr>
          <a:xfrm>
            <a:off x="6588000" y="3284640"/>
            <a:ext cx="1079640" cy="288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4"/>
          <p:cNvSpPr/>
          <p:nvPr/>
        </p:nvSpPr>
        <p:spPr>
          <a:xfrm>
            <a:off x="5148360" y="4221000"/>
            <a:ext cx="0" cy="432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5"/>
          <p:cNvSpPr/>
          <p:nvPr/>
        </p:nvSpPr>
        <p:spPr>
          <a:xfrm>
            <a:off x="5148360" y="5229360"/>
            <a:ext cx="0" cy="3585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6"/>
          <p:cNvSpPr/>
          <p:nvPr/>
        </p:nvSpPr>
        <p:spPr>
          <a:xfrm>
            <a:off x="7667640" y="5157720"/>
            <a:ext cx="0" cy="432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7"/>
          <p:cNvSpPr/>
          <p:nvPr/>
        </p:nvSpPr>
        <p:spPr>
          <a:xfrm>
            <a:off x="7667640" y="4149720"/>
            <a:ext cx="0" cy="431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500"/>
                            </p:stCondLst>
                            <p:childTnLst>
                              <p:par>
                                <p:cTn id="2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179280" y="0"/>
            <a:ext cx="8964720" cy="63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Примечание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) приставка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-  перетягивает ударение на себя. Поэтому, чтобы не ошибиться в написании глаголов с этой приставкой, следует сначала отбросить эту приставку и только потом решать вопрос о принадлежности глагола к какому-либо спряж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пример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ысп..тся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пит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(окончание ударное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II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спряжение,</a:t>
            </a:r>
            <a:r>
              <a:rPr b="1" i="1" lang="ru-RU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пишем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ыль..тся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льётся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(окончание ударное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спряжение, пишем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ылет..т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летит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(окончание ударное,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II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спряжение, пишем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б) суффикс –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в возвратных глаголах при определении  спряж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учитывает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(например, глаголы  </a:t>
            </a:r>
            <a:r>
              <a:rPr b="1" i="1" lang="ru-RU" sz="2000" spc="-1" strike="noStrike">
                <a:solidFill>
                  <a:srgbClr val="66ff33"/>
                </a:solidFill>
                <a:latin typeface="Arial"/>
              </a:rPr>
              <a:t>гнаться, видеться, строиться</a:t>
            </a: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 являются производными глаголами от </a:t>
            </a:r>
            <a:r>
              <a:rPr b="1" i="1" lang="ru-RU" sz="2000" spc="-1" strike="noStrike">
                <a:solidFill>
                  <a:srgbClr val="66ff33"/>
                </a:solidFill>
                <a:latin typeface="Arial"/>
              </a:rPr>
              <a:t> гнать, видеть, строить. </a:t>
            </a: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и относятся ко </a:t>
            </a: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 спряжению: первые два являются глаголами-исключениями, третье определяется по правилу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) в глаголах- исключениях  при определении спряж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учитываются приставк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(например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по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брить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вы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брить, засте-лить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пере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стелить</a:t>
            </a: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глаголы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 спряжения, а глагол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за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вертеть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у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гнаться,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под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смотреть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и другие относятся ко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 спряжению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250920" y="1890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Какие глаголы из перечисленных относятся к 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I </a:t>
            </a: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спряжению, какие ко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II </a:t>
            </a: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спряжению? Распределите их по столби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03120" y="1792440"/>
            <a:ext cx="80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Лететь, ехать, ходить, гореть, бояться, теч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24000" y="2276640"/>
            <a:ext cx="855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2. Выспаться, выглядеть, вытереть, вытерпеть, выстоять, вын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24000" y="3716280"/>
            <a:ext cx="14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спр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5866560" y="3645000"/>
            <a:ext cx="11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спр.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250920" y="4149720"/>
            <a:ext cx="122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хать теч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4572000" y="4076640"/>
            <a:ext cx="144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лететь ходить гор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боя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661080" y="4076640"/>
            <a:ext cx="192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высп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выгляд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вытерп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высто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1549800" y="4149720"/>
            <a:ext cx="16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тер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н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2129040" y="3233880"/>
            <a:ext cx="264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Arial"/>
              </a:rPr>
              <a:t>Проверь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cliparts02"/>
          <p:cNvPicPr/>
          <p:nvPr/>
        </p:nvPicPr>
        <p:blipFill>
          <a:blip r:embed="rId1"/>
          <a:stretch/>
        </p:blipFill>
        <p:spPr>
          <a:xfrm>
            <a:off x="3313080" y="4508640"/>
            <a:ext cx="103356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35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179280" y="115920"/>
            <a:ext cx="858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Перепишите, заменяя инфинитив глаголов личными формами в настоящем времени. Правильно пишите личные окончания, учитывая спряжение глаго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08000" y="1413000"/>
            <a:ext cx="8877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тер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носиться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д морем,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гнать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лны на запад. Матросы стойк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(бороться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разбушевавшейся стихией. Рулевой внимательно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смотреть,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перед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(видеть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горизонте черную точку. Радист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слышать,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гнал бедствия. Капитан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приказывать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дти на помощь. Корабль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держать,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уть на восток. Он быстр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приближаться,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 маленькому судну, потерпевшему аварию. Матросы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спускать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шлюпки,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пересаживать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ссажиров. Ветер постепенн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утихать,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)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роход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окойн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возвращаться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по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2771640" y="11592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Arial"/>
              </a:rPr>
              <a:t>Проверь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08000" y="765000"/>
            <a:ext cx="887724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тер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носится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д  морем,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гони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лны  на запад.  Матросы  стойко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борются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 разбушевавшейся  стихией.  Рулевой внимательно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смотри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перед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иди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 горизонте  черную  точку.  Радист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слыши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гнал  бедствия.  Капитан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приказывае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ти на  помощь. Корабль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держи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уть  на  восток. Он  быстро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приближается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  маленькому судну,  потерпевшему  аварию.  Матросы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спускаю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шлюпки,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пересаживаю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ссажиров. Ветер  постепенно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утихае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оход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окойно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озвращается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 пор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179280" y="189000"/>
            <a:ext cx="896472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Arial"/>
              </a:rPr>
              <a:t>Спишите, объясняя написание окончаний в словах с пропус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 души, как бремя, скат…тся сомненье далеко. И вер…тся, и плач…тся, и так легко, легко. Игра…т волны – ветер свищ…т, и мачта гнётся, и скрыпит… Увы, - он счастия не ищ…т и не от счастия бежит!  Тихо смотр…т месяц ясный в колыбель твою. По камням струится Терек, плещ…т мутный вал. И ныне всё дико и пусто кругом – не шепч…тся листья с гремучим ключом.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М.Лермонтов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27120" y="5938920"/>
            <a:ext cx="3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042920" y="5950080"/>
            <a:ext cx="4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1549440" y="5969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4716360" y="5877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2845080" y="5826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3419640" y="5877000"/>
            <a:ext cx="3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3977280" y="577368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2124000" y="59500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5345280" y="577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5" descr=""/>
          <p:cNvPicPr/>
          <p:nvPr/>
        </p:nvPicPr>
        <p:blipFill>
          <a:blip r:embed="rId1"/>
          <a:stretch/>
        </p:blipFill>
        <p:spPr>
          <a:xfrm>
            <a:off x="250920" y="5229360"/>
            <a:ext cx="871380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1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2 -0.04792 C 0.01285 -0.05463 0.0165 -0.06297 0.02223 -0.06852 C 0.02501 -0.07871 0.03004 -0.08913 0.03455 -0.09815 C 0.03629 -0.10163 0.04011 -0.10857 0.04011 -0.10834 C 0.04167 -0.12038 0.04323 -0.11459 0.04671 -0.12338 C 0.04862 -0.12801 0.04931 -0.13403 0.05122 -0.1382 C 0.05452 -0.14584 0.054 -0.1426 0.05782 -0.14862 C 0.0606 -0.15301 0.0606 -0.15533 0.06337 -0.16042 C 0.06424 -0.16204 0.06563 -0.1632 0.06667 -0.16482 C 0.06823 -0.16737 0.0698 -0.16968 0.07119 -0.17223 C 0.07205 -0.17408 0.07257 -0.17639 0.07344 -0.17825 C 0.07414 -0.17987 0.07501 -0.18125 0.0757 -0.18264 C 0.07709 -0.19283 0.079 -0.19075 0.0823 -0.19885 C 0.08594 -0.20764 0.08924 -0.21575 0.09341 -0.22408 C 0.09671 -0.23079 0.09844 -0.23797 0.10122 -0.24491 C 0.10452 -0.25348 0.10226 -0.24538 0.10678 -0.25371 C 0.11077 -0.26112 0.11355 -0.26875 0.11789 -0.27593 C 0.12014 -0.29514 0.13282 -0.31713 0.14237 -0.33218 C 0.15313 -0.37038 0.17726 -0.42153 0.20001 -0.44792 C 0.20469 -0.45325 0.20382 -0.45278 0.20782 -0.46112 C 0.21129 -0.46806 0.21945 -0.47801 0.22344 -0.48334 C 0.22483 -0.48542 0.22605 -0.48774 0.22778 -0.48936 C 0.23073 -0.49237 0.23681 -0.49815 0.23681 -0.49792 C 0.23994 -0.50463 0.24584 -0.50741 0.25001 -0.51297 C 0.25087 -0.51413 0.25122 -0.51621 0.25226 -0.51737 C 0.25712 -0.52408 0.26546 -0.52524 0.27119 -0.53079 C 0.27778 -0.53727 0.28473 -0.54329 0.29237 -0.547 C 0.29844 -0.55741 0.31563 -0.57269 0.32448 -0.57963 C 0.33108 -0.59167 0.34271 -0.60278 0.35348 -0.60788 C 0.35886 -0.61505 0.3658 -0.61991 0.37119 -0.62709 C 0.38316 -0.64306 0.37796 -0.63797 0.3856 -0.64491 C 0.39115 -0.65579 0.39914 -0.6632 0.40556 -0.67292 C 0.40903 -0.67825 0.41025 -0.68264 0.41459 -0.68635 C 0.41702 -0.697 0.41546 -0.6926 0.41893 -0.69977 C 0.4198 -0.70672 0.42171 -0.71227 0.42014 -0.71899 C 0.41945 -0.7176 0.41841 -0.71621 0.41789 -0.71459 C 0.41719 -0.71227 0.41667 -0.70718 0.41667 -0.70695 E">
                                      <p:cBhvr>
                                        <p:cTn id="458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809 -0.03773 L -0.02275 -0.6574 E">
                                      <p:cBhvr>
                                        <p:cTn id="462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04074 L 0.17587 -0.64977 E">
                                      <p:cBhvr>
                                        <p:cTn id="46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07407E-006 C 0.00399 -0.00579 0.00816 -0.00926 0.01337 -0.01274 C 0.01701 -0.02107 0.01441 -0.01667 0.02222 -0.02408 C 0.02882 -0.0301 0.0349 -0.04005 0.04028 -0.04792 C 0.04531 -0.0551 0.05243 -0.0588 0.05573 -0.06852 C 0.05885 -0.07662 0.06319 -0.08195 0.06701 -0.08936 C 0.07257 -0.1 0.07708 -0.11528 0.0849 -0.12269 C 0.08559 -0.12547 0.08576 -0.12824 0.08698 -0.13056 C 0.08906 -0.13426 0.09392 -0.14005 0.09392 -0.13982 C 0.09687 -0.15394 0.10556 -0.16042 0.11285 -0.16875 C 0.12413 -0.18172 0.13507 -0.19561 0.14514 -0.21019 C 0.15191 -0.21945 0.15764 -0.23473 0.16528 -0.24051 C 0.17153 -0.25463 0.18056 -0.26667 0.18889 -0.27848 C 0.19253 -0.28912 0.19965 -0.30209 0.20677 -0.3088 C 0.20903 -0.31737 0.21406 -0.32362 0.21788 -0.33079 C 0.22014 -0.33542 0.22118 -0.34074 0.22344 -0.34537 C 0.22847 -0.35487 0.23403 -0.36436 0.23924 -0.37385 C 0.24271 -0.3801 0.24358 -0.38843 0.24705 -0.39445 C 0.24826 -0.39653 0.25017 -0.39746 0.25139 -0.39954 C 0.2526 -0.40116 0.25365 -0.40371 0.25469 -0.40556 C 0.25538 -0.4088 0.25573 -0.41227 0.25694 -0.41528 C 0.25764 -0.41737 0.25955 -0.41806 0.26024 -0.42014 C 0.26267 -0.42616 0.26493 -0.43426 0.26719 -0.44074 C 0.26892 -0.45139 0.27222 -0.45209 0.27708 -0.45973 C 0.2875 -0.47639 0.27378 -0.46042 0.2849 -0.47246 C 0.28941 -0.48519 0.30139 -0.50047 0.30851 -0.51065 C 0.31979 -0.52686 0.30556 -0.51297 0.3151 -0.52176 C 0.32049 -0.53357 0.3276 -0.54329 0.33299 -0.55533 C 0.33507 -0.55996 0.34323 -0.56482 0.34635 -0.56783 C 0.35677 -0.57709 0.36927 -0.58149 0.37986 -0.59028 C 0.39062 -0.59885 0.39722 -0.61158 0.40556 -0.62362 C 0.40694 -0.63588 0.40937 -0.63334 0.40451 -0.63612 E">
                                      <p:cBhvr>
                                        <p:cTn id="470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0 L 0.11285 -0.56597 E">
                                      <p:cBhvr>
                                        <p:cTn id="47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95 -0.05093 C -0.00226 -0.05255 -0.00174 -0.0544 -0.0007 -0.05556 C 0.00121 -0.05787 0.0059 -0.06135 0.0059 -0.06112 C 0.01128 -0.07176 0.02205 -0.08102 0.02934 -0.08959 C 0.03611 -0.09769 0.0408 -0.10973 0.04826 -0.11621 C 0.05399 -0.12848 0.06111 -0.13912 0.06823 -0.15024 C 0.07292 -0.15764 0.07656 -0.1669 0.08264 -0.17246 C 0.08923 -0.18727 0.10017 -0.20348 0.11042 -0.21389 C 0.11441 -0.21806 0.11892 -0.2213 0.12257 -0.22593 C 0.12951 -0.23426 0.13941 -0.24237 0.14479 -0.25255 C 0.14722 -0.25718 0.15 -0.26366 0.15382 -0.26737 C 0.16146 -0.27454 0.16927 -0.28357 0.17604 -0.2926 C 0.1783 -0.29885 0.17986 -0.30186 0.18489 -0.3044 C 0.19618 -0.31945 0.20555 -0.33704 0.21823 -0.35024 C 0.22153 -0.35764 0.22604 -0.36181 0.2316 -0.36667 C 0.23542 -0.375 0.24132 -0.38033 0.24601 -0.38727 C 0.24844 -0.39098 0.25 -0.39561 0.2526 -0.39908 C 0.25364 -0.4007 0.25486 -0.40209 0.2559 -0.40371 C 0.25764 -0.41019 0.26285 -0.41574 0.26701 -0.41991 C 0.27031 -0.42848 0.27274 -0.42871 0.27812 -0.43473 C 0.28455 -0.4419 0.28906 -0.44931 0.29601 -0.45556 C 0.2967 -0.45695 0.29739 -0.4588 0.29826 -0.45996 C 0.29913 -0.46112 0.30069 -0.46158 0.30156 -0.46297 C 0.30226 -0.46412 0.30191 -0.46598 0.3026 -0.46737 C 0.30347 -0.46899 0.30486 -0.47037 0.3059 -0.47176 C 0.30746 -0.47963 0.31163 -0.48519 0.31597 -0.49098 C 0.31719 -0.49584 0.31667 -0.50533 0.31927 -0.5088 C 0.32118 -0.51135 0.32604 -0.51482 0.32604 -0.51459 C 0.32726 -0.51991 0.32621 -0.51806 0.32812 -0.52061 E">
                                      <p:cBhvr>
                                        <p:cTn id="478" dur="1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81 -0.03981 C 0.01406 -0.04467 0.01962 -0.04954 0.02309 -0.05301 C 0.02465 -0.06065 0.02813 -0.06505 0.03142 -0.07176 C 0.03924 -0.08796 0.02465 -0.06852 0.03993 -0.09051 C 0.04201 -0.09329 0.04618 -0.0993 0.04618 -0.09907 C 0.04983 -0.11505 0.05625 -0.1287 0.06285 -0.14259 C 0.06493 -0.14699 0.06528 -0.15324 0.06701 -0.15833 C 0.06875 -0.16852 0.06736 -0.16227 0.07222 -0.17569 L 0.07222 -0.17546 C 0.07344 -0.17986 0.07413 -0.18449 0.07535 -0.18866 C 0.07674 -0.19259 0.07969 -0.20023 0.07969 -0.2 C 0.08056 -0.21273 0.08264 -0.22292 0.0849 -0.23472 C 0.08837 -0.27292 0.09011 -0.31204 0.09844 -0.34884 C 0.09931 -0.35208 0.10226 -0.35486 0.10365 -0.35741 C 0.10642 -0.36227 0.10747 -0.36829 0.1099 -0.37338 C 0.11094 -0.38194 0.11076 -0.38889 0.11615 -0.39352 C 0.1184 -0.3993 0.11806 -0.40301 0.1224 -0.40532 C 0.12413 -0.41134 0.12517 -0.41759 0.12674 -0.42384 C 0.12743 -0.42685 0.12986 -0.43241 0.12986 -0.43217 E">
                                      <p:cBhvr>
                                        <p:cTn id="48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37 -0.01875 C 0.01667 -0.0331 0.01163 -0.04259 0.00556 -0.05277 C 0.00521 -0.05439 0.00521 -0.05625 0.00434 -0.0574 C 0.00208 -0.06041 -0.0033 -0.06481 -0.0033 -0.06458 C -0.00556 -0.07592 -0.01181 -0.08657 -0.01667 -0.09583 C -0.02101 -0.10393 -0.02153 -0.1125 -0.02674 -0.11944 C -0.02865 -0.12754 -0.03281 -0.13356 -0.03663 -0.14027 C -0.03767 -0.14398 -0.03785 -0.14838 -0.03889 -0.15208 C -0.04236 -0.16388 -0.04861 -0.17384 -0.0533 -0.18472 C -0.05729 -0.19375 -0.0599 -0.20231 -0.06441 -0.21134 C -0.06875 -0.22013 -0.06997 -0.23217 -0.07448 -0.24097 C -0.07622 -0.25301 -0.08056 -0.26203 -0.08559 -0.27222 C -0.08715 -0.2831 -0.0908 -0.29236 -0.0967 -0.30023 C -0.09844 -0.30787 -0.10191 -0.31388 -0.10451 -0.32106 C -0.10486 -0.32407 -0.10625 -0.32708 -0.10556 -0.32986 C -0.10521 -0.33125 -0.10347 -0.33171 -0.10226 -0.33148 C -0.10087 -0.33125 -0.09896 -0.32847 -0.09896 -0.32824 E">
                                      <p:cBhvr>
                                        <p:cTn id="486" dur="1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0.03842 C 0.00087 -0.03981 0.00243 -0.04097 0.00243 -0.04282 C 0.00243 -0.04954 -0.0066 -0.06967 -0.01094 -0.07546 C -0.01267 -0.08264 -0.01597 -0.08796 -0.01979 -0.09329 C -0.02153 -0.10185 -0.02691 -0.10787 -0.03316 -0.11088 C -0.03715 -0.11898 -0.046 -0.12361 -0.05208 -0.1287 C -0.0625 -0.1375 -0.07187 -0.14491 -0.0842 -0.14792 C -0.09219 -0.15509 -0.08837 -0.15301 -0.09531 -0.15532 C -0.09982 -0.15833 -0.10382 -0.16227 -0.10868 -0.16435 C -0.11232 -0.16597 -0.11632 -0.16643 -0.11979 -0.16875 C -0.12569 -0.17268 -0.1276 -0.17454 -0.1342 -0.17616 C -0.14462 -0.18449 -0.15625 -0.19236 -0.16753 -0.19838 C -0.17135 -0.20579 -0.17621 -0.20602 -0.18212 -0.2088 C -0.18663 -0.21088 -0.1908 -0.21435 -0.19531 -0.2162 C -0.2 -0.21805 -0.20416 -0.21782 -0.20868 -0.22199 C -0.21285 -0.22569 -0.21493 -0.22917 -0.21979 -0.23102 C -0.22778 -0.23866 -0.22864 -0.23704 -0.22864 -0.24884 E">
                                      <p:cBhvr>
                                        <p:cTn id="49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179280" y="189000"/>
            <a:ext cx="8516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  каком ряду во всех словах пишется  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) ненавид..м, смотр..м,  бор..м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та..т,  стел..т,  колебл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) вымоч..т,  загон..т,  ре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) завис..т,  дыш..т,  меч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95280" y="2708280"/>
            <a:ext cx="8445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  каком ряду во всех словах пишется  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) куп..шь , крикн..шь, напиш..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курлыкн..т, колыш..тся, хохоч..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) дурман..т, верт..м, реша..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) ка..шься, леле..т,  выполн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7380360" y="1844640"/>
            <a:ext cx="1214280" cy="60948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7596360" y="4941720"/>
            <a:ext cx="1214280" cy="60984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609840"/>
              <a:gd name="textAreaBottom" fmla="*/ 533880 h 609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009b"/>
          <p:cNvPicPr/>
          <p:nvPr/>
        </p:nvPicPr>
        <p:blipFill>
          <a:blip r:embed="rId1"/>
          <a:stretch/>
        </p:blipFill>
        <p:spPr>
          <a:xfrm>
            <a:off x="4284720" y="5170320"/>
            <a:ext cx="1511280" cy="1317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cliparts02"/>
          <p:cNvPicPr/>
          <p:nvPr/>
        </p:nvPicPr>
        <p:blipFill>
          <a:blip r:embed="rId2"/>
          <a:stretch/>
        </p:blipFill>
        <p:spPr>
          <a:xfrm>
            <a:off x="468360" y="4941720"/>
            <a:ext cx="86976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6T14:28:26Z</dcterms:created>
  <dc:creator>Admin</dc:creator>
  <dc:description/>
  <dc:language>en-US</dc:language>
  <cp:lastModifiedBy>User</cp:lastModifiedBy>
  <dcterms:modified xsi:type="dcterms:W3CDTF">2018-10-22T11:59:42Z</dcterms:modified>
  <cp:revision>13</cp:revision>
  <dc:subject/>
  <dc:title>Слайд 1</dc:title>
</cp:coreProperties>
</file>