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5EB6-C3BA-4931-A4C7-FBD41F76F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13CD-A9DA-4ECE-8FC6-292298B0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955E-A4E8-4FBC-BA9B-CC42041F4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F6D8-5871-4883-91EB-5545E90BB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3BED-00F8-4EC2-9C1F-BED6E91A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3761-EFF5-4222-8038-502A520B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91A3-D1EE-485A-BAAD-445A431C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6482-8F09-42EC-B978-6AEA96D0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E3B7-0A03-4A6D-81E4-41BDC668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F74E-433D-47DE-953D-BE0E8429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029A-0950-4189-A2BC-57855D17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9BC0-7691-4A6C-9B7D-E9379109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502BE9-3FDB-4378-8D53-A59F2B2E35C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бщающее повторение частей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русского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вописание омофор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525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0504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тно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ьно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б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б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ж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 ж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ём, прито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чём, при то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ак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так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вописание предл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125360"/>
          <a:ext cx="8229600" cy="5684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188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. с предлого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. предлог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еч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усл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еч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од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родолж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ассказ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родолж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едел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дств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 дел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marL="6808680" indent="-6807240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6808680"/>
                          <a:tab algn="l" pos="7723080"/>
                          <a:tab algn="l" pos="8637480"/>
                          <a:tab algn="l" pos="9551880"/>
                          <a:tab algn="l" pos="10466280"/>
                          <a:tab algn="l" pos="11380680"/>
                          <a:tab algn="l" pos="12295080"/>
                          <a:tab algn="l" pos="13209480"/>
                          <a:tab algn="l" pos="14123880"/>
                          <a:tab algn="l" pos="15038280"/>
                          <a:tab algn="l" pos="15952680"/>
                          <a:tab algn="l" pos="1686708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с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дств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засух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52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ть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у коллектива класс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ечу с подругой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ечу ветр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ли в заключ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заключ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еч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70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вить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ё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говорили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с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ё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ая работ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по группам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Выполнение упраж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Компьютерное тес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 какой части речи вызывает особое затрудн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авописание какой части речи вызывает особое затруднени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бщение и систематизация знаний, полученных в 5-9 классах по теме «Морфология», закрепление навыков правописания  разных частей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ение тестированию на компьютер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мментированное письм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огда увид..ла мать что уже и сыны её сели на к..ней она кинулась к меньш..му у которого в чертах лица выр..жалось более какой-то нежности она схватила его за стремя она прилипла к седлу его и с отчаянием в глазах (не)выпускала из рук свои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хема пред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огда =  - ), (что - =), [ - = ], (у которого =): [ - = ], [- = и = 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огда увидела мать, что уже и сыны её сели на коней, она кинулась к меньшому, у которого в чертах лица выражалось более какой-то нежности: она схватила его за стремя, она прилипла к седлу его и с отчаянием в глазах не выпускала из рук своих. (Н.Гогол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835280" y="1052640"/>
            <a:ext cx="5761080" cy="129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асти реч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 rot="17580000">
            <a:off x="1833480" y="2492280"/>
            <a:ext cx="936720" cy="1368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3480000">
            <a:off x="5510520" y="2491560"/>
            <a:ext cx="976320" cy="1368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4360" y="4076640"/>
            <a:ext cx="2950920" cy="79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ужебн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356000" y="4149720"/>
            <a:ext cx="439272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остоятельн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уществи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ла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естоим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реч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ою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Част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ед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84720" y="476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72200" y="49680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ы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72360" y="476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80360" y="476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ьшом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1840" y="857160"/>
            <a:ext cx="10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т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32000" y="83664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19480" y="85716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ж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03840" y="857160"/>
            <a:ext cx="109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ем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00560" y="836640"/>
            <a:ext cx="9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дл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51480" y="83664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аяни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740720" y="8366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з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3120" y="114444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1647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иде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16200" y="1647720"/>
            <a:ext cx="8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00720" y="1647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нула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7280" y="164772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жало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792920" y="164772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ват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9120" y="200808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лип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76560" y="1989000"/>
            <a:ext cx="15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ска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74360" y="2800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ё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19480" y="278136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59280" y="28004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84720" y="2781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й-т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6000" y="280044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080200" y="27813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2200" y="3068640"/>
            <a:ext cx="6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87440" y="30891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33640" y="30891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09280" y="337644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33640" y="39528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1640" y="395280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51280" y="393372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35480" y="3933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56000" y="4508640"/>
            <a:ext cx="7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ж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73280" y="452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65640" y="5105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85640" y="5105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89280" y="5105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95080" y="510552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95840" y="508464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44920" y="5105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8200" y="50846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51480" y="5105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27080" y="510552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20000" y="508464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dur="indefinite" fill="hold">
                      <p:stCondLst>
                        <p:cond delay="indefinite"/>
                      </p:stCondLst>
                      <p:childTnLst>
                        <p:par>
                          <p:cTn id="1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dur="indefinite" fill="hold">
                      <p:stCondLst>
                        <p:cond delay="indefinite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dur="indefinite" fill="hold">
                      <p:stCondLst>
                        <p:cond delay="indefinite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dur="indefinite" fill="hold">
                      <p:stCondLst>
                        <p:cond delay="indefinite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dur="indefinite" fill="hold">
                      <p:stCondLst>
                        <p:cond delay="indefinite"/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нег сказ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Когда я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аю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(от гл.стаять в форме 1 лица, буд.времен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танет речка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лубей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от прил.голубой в форме сравн. степен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течёт, качая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аю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от сущ. стая в форме Вин.па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ражённых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лубей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от сущ. голубь в форме Род. пад.мн.чис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58920" y="260280"/>
            <a:ext cx="6913440" cy="14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моформ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домашнего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9:15:52Z</dcterms:created>
  <dc:creator>àð</dc:creator>
  <dc:description/>
  <dc:language>en-US</dc:language>
  <cp:lastModifiedBy>àð</cp:lastModifiedBy>
  <dcterms:modified xsi:type="dcterms:W3CDTF">2011-10-02T18:59:27Z</dcterms:modified>
  <cp:revision>8</cp:revision>
  <dc:subject/>
  <dc:title>Îáîáùàþùåå ïîâòîðåíèå ÷àñòåé ðå÷è</dc:title>
</cp:coreProperties>
</file>