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DAC-C84A-40DC-9BB6-C63D99C9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E8A-9F46-4F8E-8E0D-3A278D48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2A9-0580-4AF6-BC3A-CD9476C5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6B5-EA69-4D87-898D-6255D21F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BEE-F1F3-4C85-A161-AC207D9A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4DE-7304-443F-9858-5B6FA6FB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89D-7920-4822-9516-DA14D99E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C72-48ED-4641-A4B0-ED32F926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C8C-5994-4893-AF83-F727F44C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96E-D686-4A80-8C78-5DD2529C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4B4-AD20-4CA7-BBE8-8B2FFC4E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E3C-6177-4F98-AA21-1C698742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0B888E-34EC-4F04-AA0F-2112DF78AA4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бщающее повторение частей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омофо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ём, при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чём, при 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пред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125360"/>
          <a:ext cx="8229600" cy="568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. с предлог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. предлог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усл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од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ска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дел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дел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marL="6808680" indent="-6807240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808680"/>
                          <a:tab algn="l" pos="7723080"/>
                          <a:tab algn="l" pos="8637480"/>
                          <a:tab algn="l" pos="9551880"/>
                          <a:tab algn="l" pos="10466280"/>
                          <a:tab algn="l" pos="11380680"/>
                          <a:tab algn="l" pos="12295080"/>
                          <a:tab algn="l" pos="13209480"/>
                          <a:tab algn="l" pos="14123880"/>
                          <a:tab algn="l" pos="15038280"/>
                          <a:tab algn="l" pos="15952680"/>
                          <a:tab algn="l" pos="1686708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сух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 коллектива класс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с подруго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ветр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ли в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ч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и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оворили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о группа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ыполнен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омпьютерное 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какой части речи вызывает особое затрудн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вописание какой части речи вызывает особое затрудне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ие и систематизация знаний, полученных в 5-9 классах по теме «Морфология», закрепление навыков правописания  разных часте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тестированию на компьюте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ментированное 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..ла мать что уже и сыны её сели на к..ней она кинулась к меньш..му у которого в чертах лица выр..жалось более какой-то нежности она схватила его за стремя она прилипла к седлу его и с отчаянием в глазах (не)выпускала из рук сво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огда =  - ), (что - =), [ - = ], (у которого =): [ - = ], [- = и = 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ела мать, что уже и сыны её сели на коней, она кинулась к меньшому, у которого в чертах лица выражалось более какой-то нежности: она схватила его за стремя, она прилипла к седлу его и с отчаянием в глазах не выпускала из рук своих. (Н.Гого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1052640"/>
            <a:ext cx="5761080" cy="129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и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 rot="17580000">
            <a:off x="1833480" y="2492280"/>
            <a:ext cx="936720" cy="1368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480000">
            <a:off x="5510520" y="2491560"/>
            <a:ext cx="97632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4076640"/>
            <a:ext cx="295092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еб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4149720"/>
            <a:ext cx="439272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стоятель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ас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47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72200" y="49680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47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1840" y="857160"/>
            <a:ext cx="10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83664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9480" y="8571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03840" y="85716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00560" y="83664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д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51480" y="83664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ая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83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120" y="114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64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ид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16200" y="164772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1647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у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647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ало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92920" y="1647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ват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9120" y="20080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ип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6560" y="19890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743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ё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9480" y="27813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2800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27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-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6000" y="28004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80200" y="2781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2200" y="30686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87440" y="3089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33640" y="3089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09280" y="33764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33640" y="3952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1640" y="39528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9337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5480" y="3933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450864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3280" y="452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65640" y="5105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8564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89280" y="510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5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50846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4492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8200" y="5084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27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5084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нег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Когда 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(от гл.стаять в форме 1 лица, буд.врем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анет речк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прил.голубой в форме сравн. степ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течёт, кача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стая в форме Вин.па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ажё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голубь в форме Род. пад.мн.чис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58920" y="260280"/>
            <a:ext cx="6913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м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9:15:52Z</dcterms:created>
  <dc:creator>àð</dc:creator>
  <dc:description/>
  <dc:language>en-US</dc:language>
  <cp:lastModifiedBy>àð</cp:lastModifiedBy>
  <dcterms:modified xsi:type="dcterms:W3CDTF">2011-10-02T18:59:27Z</dcterms:modified>
  <cp:revision>8</cp:revision>
  <dc:subject/>
  <dc:title>Îáîáùàþùåå ïîâòîðåíèå ÷àñòåé ðå÷è</dc:title>
</cp:coreProperties>
</file>